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CC42E2-A292-4A41-AC61-EECCBCA07D1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737606-6956-43AE-816C-D57171A1BEE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8EA8AD-2B66-4A49-8C7C-17326F7E20A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78B8A9-EE55-4062-8955-A17DAB206CE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F7943-955E-4E3D-AF83-3F1E869EAE4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294850-6C3A-4000-84D4-AE375ED39C5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DDA2C1-2010-4063-B8CE-01605CB64B2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A5CE94-BE02-48EB-B6BA-225BB5AEC36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533D94-A375-42BB-945A-9E1D8C959A2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EFC-F1F5-4613-B644-636B8562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868-A29E-4667-845B-7FCAC9B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A6F-A3ED-41E8-AF74-9C7B6E51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164-E2AA-4B5F-8622-01F7AE49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8A26-AD91-4A40-A6C3-48E24FD8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B1AE-9CFE-4019-ABE1-4B38614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A9F8-7A67-4D0F-AE92-B8084B1E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6D0-B358-4EF4-92BC-731BD95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1A8-EC1D-452B-B3F8-9B0DFE50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BED-99AC-43D0-9828-D281AAF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ABF-02AF-450F-8EA1-5691253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2CD-A23C-4590-AF0E-E373289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2EF-9C7C-4110-9B8D-6BFF668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10CE-2B07-44AE-9696-B9128B6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B664-AEAD-40A1-8B04-A9D9303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2033-2B3C-401D-A14B-FD4E8210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44B-A1A9-4EEB-8A7E-D0A2FC34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B5B9-5F16-4DDD-8A03-7878FE47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D42B-5A7A-48BF-9784-FA74493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0ADC-0FD2-4791-A9A7-478D3572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354E-70A8-48E9-BD84-750D95D2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FD94-4201-400D-8394-FA1E88D2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7D9-CB73-4191-ADE3-B59AC89D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02EB-35D1-499C-A02B-0D9EDE26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E23B-BACB-4F0E-8A91-67AF2B0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B30C-0748-4F01-9497-93D025C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BCFA-AB86-40FF-8B89-6F3F944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849D-9A1F-4114-A530-AAA7A8D9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3B2A-8D41-4C0B-BCCA-F819CEA9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48B5-3D3D-45B7-9DA0-2E0496EC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6468-9F47-469C-857E-D56F66CE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6B5C-1B1F-4857-B61A-AEFE31F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8396-5389-4931-B90C-5AD7BE52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488-5AD6-4113-94F8-6CE978C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7CBC-2831-4387-923A-7FA34F9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8B17-BEF6-4211-AFF2-BFF6BD4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A1E2-E52F-4ED6-AF01-A1A9830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2549-2425-481D-BB3F-EC71047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B607-285F-48AA-A9A1-EA595D87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49A0-A4D7-4EAA-A8C1-ED196D1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DE13-4D39-4D9F-9B68-05B89DF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CD2D-E2BE-4C22-B634-A7473E22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62A7-DFC9-4012-8730-593B5064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E7A0-1F47-4BC6-918D-A03BCF78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9FB-EC4B-453E-8A61-2453169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F4FB-62BC-4AB4-A600-3E5EF78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5331B-C0DD-4843-BB1C-4809BFD3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BF2C-C42E-441B-9BC0-8F0ACCFE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8F6F-422A-410C-960D-EDFC2105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01F1-290E-42FC-8BF3-F58C9B20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8579-46D7-4205-97D0-298EAC7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701C-86A8-4D2A-B144-CD63FA9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373F-E375-4AE4-B528-37F953C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72E5-9EF1-492F-8B7F-FABA3C7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67CC-B78A-41D4-A261-73A8AA71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F6D-B143-48B6-B43F-3B5A338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4BDBD-1A76-4282-AF23-C1834800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8947-0A51-459A-8CA8-9204976A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7455-37DA-4BF6-ABDA-98119F85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4EC7E-6470-467A-B83D-9329EC6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73E60-F73D-43AC-82C4-2A77DA17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E376D-6FC1-4331-A957-8348246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CA4E-08A3-4AD7-AEFB-0E0A129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0696-A937-42A0-9035-3A8CCEE9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C0F93-D7F6-46E9-9F91-AF00F52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D4AE0-5084-4BBF-8B27-6EF9CFF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7F1-347A-42A7-AB94-00128D6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18D60-1759-46B2-BD42-75D59E7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C4A3-4C38-46A2-89D8-BED110C5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D458-5ACF-4ED6-BF46-C7349126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0882-3EFA-4BF3-A91A-D17F8B7E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0EBD1-8913-4849-9824-596B7DF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24CED-12F9-4ED9-AEA0-DD3FAF0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451D-AE29-4CE9-B116-8CD36BED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5226-F45F-4BC2-8A23-A8B9E832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BE4A5-5294-4647-A79F-2E4F57E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4C90-C544-4C59-A3CC-706CEF2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960-DDE5-4930-920B-92FB933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C3A4-3F8F-4CC6-B004-E99EFBD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BAB9-D0E9-42FE-B097-1A99143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908F9-ECFC-49BA-AD90-6CFDA727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4B80-DF47-46A4-9657-664CD7BC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DACE-8752-489E-9E98-CCADB49A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EC75-104A-4056-83D0-84E10D28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445B-BB78-46B7-9EF5-6112922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B47F-3DD6-41B6-94F8-E66F8629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55C98-FF82-4FA8-AFC7-F05D2E3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8EF1-5D65-4CAA-B2C5-6FBE7DC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485-F51D-41E8-A616-467B779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7AFA-324E-4531-9BF4-F98BCFE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0B12-C823-474D-AC67-C94884A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10535-EB8E-4FDA-AD61-C4C22A8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3975-742C-4CAB-88D2-A5154F9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3BFB-BC48-4339-9F14-B8297073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A9D0-B2C5-4ECB-A131-8D5FF814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EC79-D70C-4D6F-8ADE-D0590B5C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FF60-4945-4BA4-97D4-2C8C05CFB9E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A38-DCAB-444C-A77C-76F6429AEA9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D041-7E6E-40A9-8CDC-0DCDE3C03F81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56B0-2413-4D3B-8D0E-F00F1042994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C989-0FE2-41D6-8406-37312D72168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AB5-9AFD-46FB-A7FC-72BABD4EBB5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63F-82FD-491D-B42F-53E1EC68C911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D255-52F7-4638-B9A9-94CE7D953AD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c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Segnaposto contenuto 4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5973840" cy="373680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CDA-DC2F-451C-8DEA-C844369D914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ttangolo 7"/>
          <p:cNvSpPr/>
          <p:nvPr/>
        </p:nvSpPr>
        <p:spPr>
          <a:xfrm>
            <a:off x="684360" y="141300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 educational background and interests are in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ttangolo 11"/>
          <p:cNvSpPr/>
          <p:nvPr/>
        </p:nvSpPr>
        <p:spPr>
          <a:xfrm>
            <a:off x="6084720" y="1989000"/>
            <a:ext cx="28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information technology as a subordinate aspect in business proces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ttangolo 12"/>
          <p:cNvSpPr/>
          <p:nvPr/>
        </p:nvSpPr>
        <p:spPr>
          <a:xfrm>
            <a:off x="324000" y="544500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business goal and organizational regulations as terms that do not deserve much thought, but require the appropriate level o abst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yllab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Introduction to Business Process Manage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volution of Enterprise Systems Architectur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and Business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Life-Cycle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lexibility Issues in Process-Aware Information System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rspectives on a Process-Aware Information System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e-speciﬁed and Repetitive Processes and Knowledge-Intensive Process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ariability, Looseness, Adaptation, Evolutio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ocess Modelling &amp; Flexibility-by-Desig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usiness Process Modell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Conceptual models and abstraction mechanisms.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tri nets. Workflow nets and workflow modules. Workflow patterns. Event-driven Process Chains (EPC). </a:t>
            </a:r>
            <a:r>
              <a:rPr b="1" lang="en-GB" sz="1400" spc="-1" strike="noStrike">
                <a:solidFill>
                  <a:srgbClr val="464653"/>
                </a:solidFill>
                <a:latin typeface="Gill Sans MT"/>
              </a:rPr>
              <a:t>Business Process Modelling Notation 2.0 (BPMN)</a:t>
            </a: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. Yet Another Workflow Language (YAWL). Related Extension to support flexibility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nalysing the Behaviour of Process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erifying Pre-speciﬁed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nsuring Correctness of Conﬁgured Process Variant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Unfolding techniqu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CC4-3551-4430-8B9A-DC44C5036BE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5194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 Management. Concepts, Languages, Architectures.  Weske, Mathias 2007, XIV, 368 p. 265 illus.. ISBN: 9780321155559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1 – Int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2 - Evolution of Enterprise Systems Architectu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4 – Process Orchest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1 Control Flow Pattern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2 Petri Ne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7 Business Process Modeling Notation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6 – Properties of Business Proces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1 Data Dependencie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2 Structural Soundnes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3 Soundnes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7812-C6F2-472B-8EAE-3EAA40131F7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magine 1" descr="978-3-642-28615-5.png"/>
          <p:cNvPicPr/>
          <p:nvPr/>
        </p:nvPicPr>
        <p:blipFill>
          <a:blip r:embed="rId1"/>
          <a:stretch/>
        </p:blipFill>
        <p:spPr>
          <a:xfrm>
            <a:off x="5867280" y="1700280"/>
            <a:ext cx="25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5483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ichert, Manfred, and Barbara Weber. Enabling flexibility in process-aware information systems: challenges, methods, technologies. Springer, 2012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  Intro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2  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- Flexibility Issues in 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4  Process Modeling and Flexibility-by-Design (already covered by Weske boo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5 - Process Configuration Suppor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5.3 Structural Configuration Approaches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 - Business Process Compli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0DA-EF0D-41F7-AE2B-7C29BF9BAED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Immagine 4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336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rther mater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odel And Notation (BPMN) Version 2.0 - http://www.omg.org/spec/BPMN/2.0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PMN 2.0 by example -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omg.org/spec/BPMN/20100601/10-06-02.pd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ther lecture notes and research papers, selected during the course (some of them are already on the we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534F-4EA5-4B44-939F-6DB66385A2B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aching and Learning Metho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2 h - lecture and exercise sess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edne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ur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study: reading and explor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30C-0113-4121-9C87-F9C0D5FA9A8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ome more inf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relevant information is availabl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barbarare.wordpress.com/teaching/advanced-topic-in-business-process-management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FDF-AB9D-4BB7-99B8-8F92ABC4B64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464653"/>
                </a:solidFill>
                <a:latin typeface="Bookman Old Style"/>
              </a:rPr>
              <a:t>Assess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riting Examin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the topics of the syllab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pen or multiple-choice questions + Exerc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2 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Dat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(https://didattica.unicam.it/Home.d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2/2016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10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5/09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7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6/06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31/03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23/02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3/02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9943-B96F-4A15-B96A-009BCF11AB5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C3A6-08E4-4423-A04A-A05C94BDD62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Segnaposto contenuto 4" descr="me1.jpg"/>
          <p:cNvPicPr/>
          <p:nvPr/>
        </p:nvPicPr>
        <p:blipFill>
          <a:blip r:embed="rId1"/>
          <a:srcRect l="0" t="4193" r="0" b="4193"/>
          <a:stretch/>
        </p:blipFill>
        <p:spPr>
          <a:xfrm>
            <a:off x="457200" y="1219320"/>
            <a:ext cx="404172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632480" y="1216080"/>
            <a:ext cx="433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arbara Re, Ph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Gill Sans MT"/>
              </a:rPr>
              <a:t>Computer Science Divi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CS 11 (Battibocca Pa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barbara.re@unicam.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barbarare.wordpress.com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851-06CF-4CBF-9DEB-0C609A85246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Who I am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FC7-FCA1-431A-BDE7-632BDB5CBF2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chelor and Master Degree in Computer Sc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hd in Information Science and Complex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ome Expi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Information School of University of Washington working with Dr. Hans J (Jochen) Sch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School of Business of University of Applied Sciences Northwestern Swizerland FHNW working with Prof. Knut Hinkelman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ssistant Professor at University of Cameri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y Interes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D66F-A8FF-4A0E-825D-3ABEA366AE6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anagement: from modeling to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thodologies and technologies for Smart Government development and related services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rojects I’m involved 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PAd (Model-Based Social Learning for Public Administrations) EU FP7 ICT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CP (Open City Platform) MIUR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 (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Private Assisted House) Regione Marc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79B6-E310-4EB8-AEF6-18C7D62BB04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0920" y="29718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about you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062-B174-45D2-9B4D-05C7F70E6DF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urse Obje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focuses on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terprise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at are driven by models, i.e., instead of constructing code these systems ar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ssembl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using 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We will focus on the so-called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 "process-aware"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 better understand the impact of th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business processes both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 static and dynamic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introduces all relevant state-of-the-art concepts, methods and technologie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abling process flexibilit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e.g., proces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atio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d-hoc proces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hanges, process schem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C0C-3640-4707-93EF-DC4B299E020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Learning Outco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nderstand the importance of Business Process and Business Process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in some familiarity with business process termi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now most common techniques of Business Process modelling and be familiar with Business Process Management tools with a particular emphasis on Business Process flex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Business Process Management into practical case stud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486B-45E9-4A02-B473-80D799E1DF1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18:36Z</dcterms:created>
  <dc:creator>Barbara Re</dc:creator>
  <dc:description/>
  <dc:language>en-US</dc:language>
  <cp:lastModifiedBy>Barbara Re</cp:lastModifiedBy>
  <cp:lastPrinted>2015-01-21T23:36:15Z</cp:lastPrinted>
  <dcterms:modified xsi:type="dcterms:W3CDTF">2015-01-21T23:36:35Z</dcterms:modified>
  <cp:revision>149</cp:revision>
  <dc:subject>Lezioni Laboratorio Informatico per i database turistici</dc:subject>
  <dc:title>Presentazione corso</dc:title>
</cp:coreProperties>
</file>